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498-1AFA-4F8A-8601-BBCC8A93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D9A-6E72-4C0D-B753-CD18DAAB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E5FB-B8AB-42DD-BA28-9FCF515A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6D0-8D12-4F3B-A659-A8537D64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4840-F11E-49B9-A183-723EC487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C08C-2B10-41E9-9F66-E653A746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C8CD-91A2-43C3-825F-9857072A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CE42-2212-44FB-87FE-36AD98C2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B84E-9902-40F0-98AB-28692208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D8D4-0641-4549-9D9D-3E0E10A4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6196-1EF8-42F5-A342-E9ADBCBB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88B4-A057-4F26-9629-E3522EFA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D816-A27F-4059-B647-7DF31ED2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0B7B-E773-453F-B113-FB246349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8F1B-F613-47E2-8F15-1BAAB405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FE4D-1B8D-404E-8568-8F64C077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73F3-3BF5-4839-A1DD-C63F7340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5C3-009D-4A27-AEEB-BE1D743A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C91-1C46-44C3-BB26-518E1284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F75A-6CA9-4C60-83F8-8417025D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A3A-9A31-40A7-9121-5031A78D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031-44FF-477E-8563-452F5529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2D5-9BBB-4691-9287-AF12CFCA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495-DDD2-4E75-A923-57BA6B7E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A906-88CA-49D2-A8B3-2606CFC0C1A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AE17-8B36-4763-988A-0E86BFD0F37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СКАЛЬНАЯ ЖИВОПИСЬ В ЭПОХУ ПЕРВОБЫТНОГО МИРА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52120" y="3352320"/>
            <a:ext cx="67820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: Егоренко Анастасия, студентка 4 курса филологического факультета КГПИ, г.Сыктывкар, 2010 г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Arial"/>
              </a:rPr>
              <a:t>Основополагающий вопрос проекта: </a:t>
            </a:r>
            <a:endParaRPr b="1" lang="en-US" sz="37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438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очему люди рисуют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Проблемные вопросы: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43828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2362320"/>
            <a:ext cx="67820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акое значение имеет наскальная живопись в настоящее время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то такое наскальная живопись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каких частях света найдена наскальная живопись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то мы узнаем о быте народа по наскальной живописи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401760" y="268200"/>
            <a:ext cx="84438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ознакомить  учащихся с наскальной живописью Первобытной эпохи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Расширить кругозор учащихся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Привить любовь к истории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выставка рисунков;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эссе;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сочинения;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творческие презентации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1043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imes New Roman"/>
              </a:rPr>
              <a:t>- узнать к какой культуре первобытной эпохи относятся первые произведения искусств;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imes New Roman"/>
              </a:rPr>
              <a:t>- какой стиль наскальной живописи использовали первобытные люди;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imes New Roman"/>
              </a:rPr>
              <a:t>- Археологи так и не обнаружили в древнекаменном веке пейзажных рисунков. Почему?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imes New Roman"/>
              </a:rPr>
              <a:t>- какой культ прославляли первобытные люди , изображая его в пещерах;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ещеру Альтамир рассматривает группа, состоящая из мальчиков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девочки рассматривают подробно пещеру Ля-Мут во Франции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2"/>
          <a:stretch/>
        </p:blipFill>
        <p:spPr>
          <a:xfrm>
            <a:off x="450720" y="-49320"/>
            <a:ext cx="8242560" cy="1712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ремя выполнения: 2 недели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количество часов: 8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количество уроков: 10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33440" y="268200"/>
            <a:ext cx="83757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*  ВСЕОБЩАЯ ИСТОРИЯ МИРОВОЙ КУЛЬТУРЫ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/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ГЕРМАН ВЕЙС.- М.:2006 г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*УЧЕБНИК ПО МХК, 7 КЛАСС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*  МЕТОДИЧЕСКИЕ ПОСОБИЯ ДЛЯ УЧЕНИКОВ 5-9 КЛАССОВ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/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. ХАРЧЕВА, 2007 г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равченко А.И. Культурология: Учебное пособие для вузов. - 3-е изд.- М.: Академический проект, 2001.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8:06:41Z</dcterms:created>
  <dc:creator>НАСТАСЬЯ</dc:creator>
  <dc:description/>
  <dc:language>en-US</dc:language>
  <cp:lastModifiedBy>студент</cp:lastModifiedBy>
  <dcterms:modified xsi:type="dcterms:W3CDTF">2010-04-02T10:46:31Z</dcterms:modified>
  <cp:revision>14</cp:revision>
  <dc:subject/>
  <dc:title>Слайд 1</dc:title>
</cp:coreProperties>
</file>